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EE7-2425-4A5C-8BE4-84C185CF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F86-AA2C-452E-AB29-221BB12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1AC-09E2-43F7-86F9-EAE5568B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DD4-4713-46FA-8F13-03045970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31B-B588-486E-95A2-A05D8ACC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655-55CC-4BB1-BA79-C299D1B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AB0-8003-472F-9130-D454F6FC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5C6-60EC-4FD3-83FC-35DD6B15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676-E2FB-4893-87B7-759CC08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16E-74ED-4091-937D-14BD1E4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712-EF5D-4553-BED4-637721B9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800-C967-4478-AD1C-4618908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C15-AA8D-4601-A271-98B6AE795F8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2T11:27:53Z</dcterms:modified>
  <cp:revision>173</cp:revision>
  <dc:subject/>
  <dc:title>PowerPoint</dc:title>
</cp:coreProperties>
</file>